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1EF-DDCC-4735-9827-D4EB9207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CA2-EC1B-463B-A1C0-509DA508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36A19-FF31-4937-B6A4-05EC0FF8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64B6E-2496-4417-8512-4452C692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D4E25-FAA5-4B96-8BCB-746283A0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BFDFA-E907-49E4-864F-95C08AB0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943E7-08DF-4D79-B2A3-89E62CE1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0E181-DC8F-437F-ADFD-C9E6482C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775E4-A83E-478C-9584-ECFE5863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CFDA1-5B9F-4847-B924-4FEDE0D8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FA97D-32B9-4348-8935-464E6F46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4BE4D1-128E-4D89-A211-65C9F2EA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CBBB-31C0-4A79-A987-2CD29373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2FA53A-7EDD-48BC-9598-7E04F207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9EE8A4-0601-44DE-B488-DE0BEC11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B26059-E1E4-4BFC-9BFE-817F1787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F94B8A-C0B4-4238-B62A-3D4B67B6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92E47F-A0E8-4BD9-AC30-66CC8421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B7AA44-E5AB-42E8-8727-FADB4A8C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4C0B90-F7FE-47FF-9F56-019959A0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C007A2-926A-4587-9D16-442E0778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AFF844-2942-4A7A-A633-CDF22564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EF8169-DE97-4445-95B7-AFE27BD9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81A-07F0-4CA3-BEAC-E0C65BCF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B7B0EF-0659-44B8-979F-5DEBCD53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89CB-1FCE-4DC1-B755-8EC2F15F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0F07-4B33-4E56-8106-A17ACB37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D782-F2B4-4D79-991D-9E4E7B09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A164-40FF-4512-9C17-8BBD9DDC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349C-4617-4FD6-B831-FF436332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DB79-BCC4-40CD-B34B-AB140B3F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D0EA-4F60-4157-86B6-585603ED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F6C-2E59-41B3-B09E-77F206A5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4C52-D027-4D0E-845D-433FE309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6345-C168-4328-8469-E585C1C3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0903-962A-4D40-B339-36E87095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0862-AF39-4B33-8476-7716AFC1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EC06-9ADB-4E11-BBB0-7B87E578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DB0F8-45E3-42C2-AE13-3D2A78DE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C960D-DAB9-449B-A28C-319B87E9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CBD4C-A34E-43E4-A9A3-6BCBE461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A537E-D492-4BB5-8667-2C3053BB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53730-5DB6-4917-B111-58E80442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CAFD-65A8-4B53-BF00-6B9A847D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97577-91C8-4481-8242-28853615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5D435-7145-494F-B423-F7DFDB49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2399A-3501-47BC-912A-95AC5266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58863-3E5E-47E8-9359-CB3419AD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E42FE-8410-40B0-BC24-4C9E8579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2F525-2F41-4CFB-9138-FE7058B4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AEDF7-674B-465D-A6B7-6EBE20A1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D219B-81F7-4B4C-9D80-AE2997E7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7A4A4-C4F2-4BB3-9A1E-1DEB3233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E6675-12EF-48FD-8A5B-EA8A351B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B71-E7B4-43D0-8EDB-E9DB091D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24ACA-B48D-4234-A692-0F3CD074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80223-D007-477D-B265-77E8A227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83590-BB55-427E-9F8E-D371FDA5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E115B-7A4B-4C2F-B992-4F8C63FD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50707-CFC1-4EC9-9A96-2BFF794D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0E08E-8A5A-4398-82FD-79891DC1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7C551-CA96-4874-9B67-FB8BC7C6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1C96F-B5BD-4AD4-9061-7B635F24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08A5E-5C10-409E-9EA0-EBBA55FE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F387C-DCF6-464F-A94E-2F157129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4873-D12D-4628-982F-A79843A3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8EB32-5D5D-48BF-AEED-E739C0CE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48F50-2E1E-4163-A6AB-0A148F52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9590E-A91A-4543-B724-131321AD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5727D-5801-46E9-8F4E-C7CC7692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7AB82-F85F-4383-BA78-3992E9D7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6F628-3B87-4DED-B9D1-8D9C0380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5BD85-5D52-4530-A3A6-12A4CF1A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FE03B-356A-43DB-9A98-BD2A5A48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ECAB8-F9DB-4E71-AFF8-92C37F13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44088-0C67-45E3-B5F4-0058D74C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D7D3-1842-4D31-8DF3-E3F0AFD1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B0F9E-B95A-4716-9A2D-06FE2A85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A5002-882E-468C-80BA-18EB18C1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7FECB-0A50-43CD-BF31-87A88E52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7A252-F328-45B6-A6C8-9A02A97E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B3B10-A29A-4878-B037-9083583E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26900-D404-4E01-9841-6A200B30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3F2B4-9189-45C9-B355-B205A406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A4C47-E538-4B2A-AC32-F68EC84A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68074-7DDA-4E1C-9106-64157CEC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FAE26-6528-4E7D-AA40-D953BE0C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00E-B636-444A-B44A-19AE5CE4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932D0-7D88-4AFC-94FF-C7EE77C0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703FE-DE08-4A6E-B1EF-AEE54448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78650-78E0-43E2-AD4D-FBA783CB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5F8EF-6267-4181-B00B-AE4C3B17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6C9CF-87C4-4096-90F9-3E7285E6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9DC7A-456B-4C9B-B40E-B12AAF76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7A089-383C-4F78-B05B-AA84C1D6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81AD4-BF67-47E5-A440-B681610E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614AC-FB96-4036-B7CD-B357DCB9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98AAA-6BF8-4339-A431-2757FC09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78E7-E24C-499E-B005-95485E6C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E2DCE-9360-4700-8D2B-EEFF3BB7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DCACC-257F-4F01-AE4A-0EAB7BF7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8B022-6467-4E8F-A236-ED7B530D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02484-3898-4CF0-9365-6754A039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AE9DF-5216-43BF-AF5E-FB01B4D1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B61B1-17C2-46B4-A7CD-A4DD6AF5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1EC25-C42E-406C-9792-17BE3328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693AA-7490-4913-A99D-3AC0960A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9337C-DBAD-48FB-87F0-3FCAD632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5070F-6FCF-4041-9F3B-9C34EACE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AA66-41F0-460B-A0CE-113BC699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C0383-6B9E-45A3-9F63-A3C23610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5074B-F1DC-4ED8-BB9B-9F31F169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6357C-CF96-4A42-BCAF-6F834E49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24EF1-E234-4674-975A-398F1B5F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5F3CD-4891-4B6A-97CC-A6098198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2AECA-33C0-41C5-8F8D-C6FC44A8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98F13-E3D3-4B91-BF24-EAD0DE03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AF33E-5F8C-4130-AAF1-04CA3D03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EB1D5-8643-48F3-8991-95B6D160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5D967-4C32-4CF8-85CC-B17BA579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8065-D18E-4CBF-8DCD-DD999C1886B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8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8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8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9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66E6-7AA6-45A7-9FE1-FCA9C1F6FD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B361-ECFF-4077-B059-2653EC4A439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2916-7D75-4B13-8422-18D7CE653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E767-C727-4955-97EC-EE612577B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DCFD-C5CD-459D-8B24-D2A98E3BBC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4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D5EF-DFEA-405C-9CDA-6AB4364941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8BC5-9F63-4285-9C42-13BA36924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7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18C2-EC82-4E03-BAE2-44E0BF907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2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2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3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D2B4-EFE5-48A0-886C-2C2A129F3B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Формирование самооцен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Мнение окружающих люд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Собственный жизненный опы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Степень воздействия на формирование нашей самооценки имеет значимость для нас мнения того или иного челове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 txBox="1"/>
          <p:nvPr/>
        </p:nvSpPr>
        <p:spPr>
          <a:xfrm rot="297000">
            <a:off x="726840" y="1123560"/>
            <a:ext cx="705636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оце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685800" y="2142720"/>
            <a:ext cx="769608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здоровое отношение человека к самому 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чувство собственного достоинства и уверенности в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актор признания или непризнания человека окружающими людьми оказывает влияние на формирование у него правильного отношения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 txBox="1"/>
          <p:nvPr/>
        </p:nvSpPr>
        <p:spPr>
          <a:xfrm rot="183000">
            <a:off x="826920" y="744120"/>
            <a:ext cx="71866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ува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 негативным подтекстом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никогда не сможешь ничего добиться в своей жизн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полная копия своего отц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Позитивное высказывание: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Вы напоминаете мне … Вы энергичны и решительн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Я ценю ваше умение выполнять поручаемую работу. Вы очень эффективный работник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619280" y="1197000"/>
            <a:ext cx="626580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269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говорят о на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бладающего чувством самоуваже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крытый взгля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олова поднята; походка прям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разговоре выражает позитивное отношение к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корит себя; ощущает принятие со стороны окружающих люд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увствует себя способным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рет на себя ответственность и заботится о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меет здоровые привыч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042920" y="1052640"/>
            <a:ext cx="7201080" cy="71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5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С низкой самооценко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чет глаза, старается отвести взгля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ходьбе сутулится, вжимает голову в пле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нижает собственное достои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тоянно ощущает чувство в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способен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заботится о себе, не несет ответственности за себя и свои действ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меет вредные привыч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755640" y="1052640"/>
            <a:ext cx="74167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844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огие используют еду как средство снятия напря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удачные попытки сбросить вес ведут к  потери самоува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ильная самооценка и уважительное отношение к себе помогает человеку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бросить вес, удержать его и полностью изменить свой стиль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755640" y="1052640"/>
            <a:ext cx="725472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789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зиимосвязь ожирения и самооцен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Необходим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ить в возможность повышения самооц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ть пути повышения самооце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47640" y="836640"/>
            <a:ext cx="640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к повысить самооценку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Сознательно формируйте чувство самоуважения и верьте в собственную значим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Анализируйте свои чувства и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Постарайтесь осознать, что эмоции и чувства являются продуктом ваших мыс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Определите мысли вызывающие негативные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имер: «Я – полный неудачник» или «эта задача мне не по силам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еняйте негативные мысли на позитивные: «Я не считаю себя неудачником, моя зависимость от еды – временное явление. Я смогу похуде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 Помните, что вы можете изменить себя, если измените свои мыс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Научитесь прощать себя и друг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Окружите себя людьми, которые понимают и поддерживают ва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Находите для себя возможность ежедневно заниматься любимым дел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) чтение, занятие спортом, прогулка на свежем воздухе, прослушивание музыки, работа в сад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) помните о том, что утомление часто является скрытой формой депресс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0:32:42Z</dcterms:created>
  <dc:creator>Черевичная Вера Петровна</dc:creator>
  <dc:description/>
  <dc:language>en-US</dc:language>
  <cp:lastModifiedBy>Черевичная Вера Петровна</cp:lastModifiedBy>
  <dcterms:modified xsi:type="dcterms:W3CDTF">2007-02-08T10:59:59Z</dcterms:modified>
  <cp:revision>2</cp:revision>
  <dc:subject/>
  <dc:title>Слайд 1</dc:title>
</cp:coreProperties>
</file>